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201-EBB9-4D5E-BFC6-3F37B050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F66-68B5-494B-B1FF-4F461B13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CF9-F6D0-4D25-9EB8-B930BF2B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D59-3D22-4932-82F9-389BF465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397-9BA1-4458-87C2-15E37176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FD2-51D5-4924-B7BE-6743EA1D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B7B-4C0E-4200-9F1E-DB795B1F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EDB-A36F-40CF-9CD4-BD7B0826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82E-AC88-457B-A8DB-88F7A525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D4E-9D91-4A44-B834-0589F8A7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F4E-5134-4ABE-A19C-433B8BA9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F73-95A1-4FBF-952C-B8DAA254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AF14-6FED-49E8-B670-48E94D59E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оцијална фармација, Г12</a:t>
            </a:r>
            <a:br>
              <a:rPr sz="2000"/>
            </a:b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ставна јединица бр.8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Arial"/>
              </a:rPr>
              <a:t>Фармацеутска деонт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финиције, карактеристике, развој кроз истор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Проф. др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армацеутска пракса обухв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армацеутску здравствену зашти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армацију засновану на докази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свећеност пацијен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дравствену заштиту хронични пацијена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момедикаци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езбеђење квалитета фармацеутских здравствених услу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линичку фармаци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стмаркетиншко праћење нежељених дејстава леко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oath and prayer of Maimonides</a:t>
            </a:r>
            <a:br>
              <a:rPr sz="32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Jewish physician of the 12th Centur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y eternal Providence has appointed 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o watch over the life and health of Thy creatures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ay the love for my art actuate me at all times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ay neither avarice, nor miserliness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r the thirst for glory, nor a great reputation engage my mind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 the enemies of Truth and Philanthroph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uld easily deceive me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make me forgetful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f my lofty aim of doing good to Thy children.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00720" y="16002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ay I never see in the patie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ything but a fellow creature in pain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Grant me strength, time and opportunity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lways to correct what I have acquired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lways to extend its domain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 knowledge is immense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the spirit of man can extend infinitely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o enrich itself daily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ith new requirements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oday he can discover his errors of yesterday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tomorrow he may obtain a new ligh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n what he thinks himself sure of today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 God, Thou hast appointed 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o watch over the life and death of Thy creatures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re I am ready for my voc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ATH OF A PHARMAC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t this time, I vow to devote my professional life to the service of all local and global communities through the profession of pharmacy. I will consider the welfare of humanity and relief of human suffering my primary concerns. I will apply my knowledge, experience, and skills to the best of my ability to assure optimal outcomes for my patients. I will respect and protect all personal and health information entrusted to me. I accept the lifelong obligation to improve my professional knowledge and competence. I will hold myself and my colleagues to the highest principles of ethical and legal conduct. I will embrace and advocate changes that improve patient care. I will utilize my knowledge, skills, experiences, and values to fulfill my obligation to educate and train the next generation of pharmacists. I take these vows voluntarily with the full realization of the responsibility with which I am entrusted by the publ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Developed by the American Pharmaceutical Association Academy of Students of Pharmacy/American Association of Colleges of Pharmacy Council of Deans (APhA-ASP/AACPCOD) Task Force on Professionalism, June 26, 1994. Revised on May 9, 2007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11280" y="144468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у члана 29. Закона о коморама здравствених радника („Службени гласник РС”, број 107/05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упштина Фармацеутске коморе Србије на седницама одржаним 6. јуна 2006. године и 25. октобра 2006. године донела 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Т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рмацеутске коморе Срб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"Службени гласник РС", бр. 106 од 24. новембра 2006, 118 од 26. децембра 2008, 5 од 5. фебруара 2010, 113 од 20. децембра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24000" y="339840"/>
            <a:ext cx="84960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лан 18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 издавања лиценце, подносилац захтева - дипломирани фармацеут, који је сагласно закону обавезан на чланство у Фармацеутској комори Србије има право и дужност да пред директором Коморе, председником огранака или другим лицем које овласти Управни одбор, полож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клетв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у тексту који гла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"У часу када добијам лиценцу за рад свечано обећавам, обавезујем се и заклињем, да ћу свој позив обављати часно, достојанствено и савесно по законима човечности и у складу са начелима исказаним у Етичком кодексу фармацеута Србије. Свечано се заклињем да ћу своје знање, искуство и стручност применити на најбољи начин у корист пацијената и других здравствених радника, поштујући при томе људска права и достојанство човека и да ћу и у професионалном и у приватном животу чувати углед и племениту традицију струке. Ово изјављујем свечано и слободно свестан одговорности које ми друштво као здравственом раднику поверав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рофесионалне активности фармацеутске прак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безбеђивање одговарајуће терапије и исхо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безбеђивање погодне фармакотерапиј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безбеђење разумевања пацијента/адхеренце за терапију и план третма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дзор и извештавање о исходим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здавање лекова и медицинских средста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брада рецепата и медицинских налог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ипрема фармацеутског произво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Испорука лека или медицинског средств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ромоцију здравља и превенцију боле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ужање клиничких услуга у превенцији боле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веобухватно истраживање и извештавање о садржајима јавног здрављ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омоција безбедне употребе лекова у друштв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Управљање здравственим систем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Менаџмент прак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Менаџмент лекова кроз целокупан здравствени систе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Учешће у истраживачким активностим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храбривање за интердисциплинарну сарадњ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орал и 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тимоло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тика потиче од две грчке речи: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tho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обичај (навика, уобичајена радња) и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thiko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моралан (пребивалиште, ћуд, нарав људи на пребивалишту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јм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рал означена одређена појава и пракса у друштвеном живот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тика  означена је наука о моралу као друштвеном феномен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р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 више се употребљава за оне вредности које једно друштво прихвата као универзалне принципе. Морал је људска (друштвена) прак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тика се обично користи за вредносне принципе релевантне за неки посебан контекст, домен активности или професију. Етика је теорија праксе – теорија о прак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оралне норме, морални суд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алне норм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 заснивају на опште усвојеним моралним вредностима по принципу супротности, добро – зло, исправно – неисправно, поштено – непоштено, истинито – неистинито (лажно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рме утичу на ставове човека и детерминишу његове поступке према другима, регулишући интерперсоналне одно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ови по усвојеним моралним нормама прерастају 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алне судов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ни судови су основа и генератор даљег уобличавања моралних норми у свакој цивилизацији, у сваком друштву, у свакој заједниц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рални фено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тика је наука о моралном феноме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рални феномен обухвата обичаје, навике и норме којима се људи у друштвеној заједни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е и у складу са њима контролишу своје понашање и поступ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рални феномен 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снива на две битне особине чове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телек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пособност сазнања и планирања поступа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рационалнос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моционалнос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агонско у чове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ниверзалне вредности ч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homo morali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homo religiosu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homo luden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homo fab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mo economi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357880" y="333360"/>
            <a:ext cx="3390840" cy="20160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ima virtus est vitio car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rnix cornici oculos non effodi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деје о разумевању човека кроз историју цивилиз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хватање мислилаца античке Грчке, по којима човек треба да захвали за свој посебан положај на планети свом разуму, своме уму, својој самосвести. Човек је друштвено биће које уме да сазна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ришћанско објашњење човека, схватање о божанском пореклу и објашњењу света кроз појаву од бога створених првих срећних људи – Адама и Еве, који су због сагрешења изгубили Земаљски рај и доживели одбацивање од Бога. Остављена им је могућност парцијалног повратка Богу кроз спас душе ал само за оне који уђу у вернике и доследно поштују Бога. Материјално постојање човека и телесни живот су занемаре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имања историјске суштине човека проистекло из актуелних природно- научних схватања,  човек је највиши достигнути облик живота на Земљи. Суштински, човек је биолошко биће са генетском диспозицијом да на самом рођењу развија менталне функц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mo sapiens rec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времени умни човек непромењених квалитета, потенцијала и могућих реализација своје менталне укупности присутан је на нашој планети пет до седам хиљада год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 не познаје неутралнос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дносни систем моралних норми је консеквентно дихотоман, све је или добро (морално) или лоше (неморално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 није једина људска пракса и није вредност свести независна од других облика друштвене пракс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 је непрестано и чврсто повезан са економским, политичким, класним, културним, националним и верским посебностима праксе датог друштва, заједнице или груп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 привилегује само човека као свесно биће, под условом да је у довољној мери слобод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снове морала су следе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нање или све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моције – емотивни процес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ља као резултат мотивационо вољних проц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НОРМЕ КАО ИЗВОР МОРАЛНИХ НОР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авеза узајамног помагањ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једничка жалост за умрлим чланом генс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авеза освете убијеног члана генс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брана женидбе унутар генс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улт предака и тотемиз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времена медицинска етика, темељи се на четири основна принцип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поштовања живо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праведности – недискриминације по било ком основ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добротворности – принцип хуманости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поштовања личности пациј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дицинска деонт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рмин деонтологија потиче од грчких речи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e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дужност и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logo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говор, нау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дицинска деонтологија - наука о професионалним дужностима, моралним поступцима здравствених радника и њиховим моралним схватањима при стручној медицинској  делат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јам медицинске деонтологије углавном се подудара с појмом медицинске етике, али је у суштини нешто шири, јер не обухвата само етичка начела, него и позитивне правне прописе који су у вези са звањем здравствених рад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дицинска деонтологија – област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цинско право – јуриспруден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а о понашању – (психологија опхођења)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цинска е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пут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 проучавању медицине – медицинска ходеге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rrare humanum es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ешка здравственог радника може би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идржавање утврђених научних сазнања и правила професионалне технике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itium Arti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реда начела хуманости специфичних за медицинско зва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нална несмотреност и немарн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онски проп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равствени радник може одговарати због седећих кривичних де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ужање редовне медицинске помоћ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минални аборт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утана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влашћено одавање тајн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вична дела у случају заразних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авесно леч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ња и продаја штетних средстава за леч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и разлози неетичких поступака су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ља за зара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коум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ш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њ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ксуални интер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на знатиж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5357880" y="333360"/>
            <a:ext cx="3079800" cy="19432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ајважнија врлина је бити без м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рана врани неће вадити 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ундаментални принципи у здравству –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avisto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експертска гр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504504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ствена заштита је право сваког чове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ига о појединцима представлја центални сегмент у пружању здравствене заштите, али мора да буде посматрана и примењивана у свеобухватном контексту континуираног залагања у постизању најбољих резултата у здравственој заштити за појединца, групу и за целу популацију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обухват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жности у оквиру система здравствене заштите подразумевају превенцију обољења и ублажавање тегоб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ад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адња са колегама и пацијентима је императив за оне који учествују у систему здравствене заштит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бољш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и појединци и групе који су укључени у здравствену заштиту, било да обезбеђују приступ или услуге, стално су одговорни за ангажовање у подизању нивоа услуга здравствене заштит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бед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um non nocere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оре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ја обухвата отвореност, поштење и поверљивос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кон о здравственој заштити – основна пр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ступност здравствене зашти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авештењ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формац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лободан изб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моодлучивање и пристана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ватност и поверљивос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ајност подата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ступ медицинској документациј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штита при учествовању у клиничким испитивањи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кнада ште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ормативни принципи фармацеутске ет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eachamp; Chil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нцип доброчин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нцип  нешкодљив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нцип правич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нцип аутономиј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д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нцип информиса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нцип поверљив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тички нонсенс”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звољавањ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утаназиј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орт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онирањ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рзавања ембрио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рогат матери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Ð ÐµÐ·ÑÐ»ÑÐ°Ñ ÑÐ»Ð¸ÐºÐ° Ð·Ð° kalendar vakcinacije 2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нем се Аполоном лекаром, Асклепијем, Хигејом, и Панакејом, и за сведоке узимам све богове, и све богиње, да ћу се у складу са својим способностима и својим расуђивањем држати ове Заклетв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ипократова заклетва, претпостављени оригинални тек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пократова заклетва се базира на 4 основна принцип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чињења доброг и ненаношења зла пацијент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цнип праведнос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поштовања живо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поштовања личности пацијен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времени аутори сматрају да се заклетва састоји из 12 де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ећање дато боговима и молба да их богови прате у вршењу професиј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ећање наставницима у погледу одржавања колегијалности и чак пружања финансијске помоћ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већеност студентима и онима који желе да уче након што положе заклетв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ећање пацијентима да ће се приликом њиховог лечења ослањати на своје знање, праксу и моћ расуђивањ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омињање стандардне „дијетне“ праксе, најчешћи начин лечења у то доб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вљање границе: никако се не бавити каменом( у бубрегу или јетри) већ то препустити онима који су стручниј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89000"/>
            <a:ext cx="40384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меравање на добробит пацијента а не на добробит докто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рањивање абортуса и еутаназије( иако у наставку Хипократовог корпуса не стоји директна забрана ова два чина, већ се исто само ограничава у неким ситуацијама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цип правде- избегавати корупцију и свакоме пружити помоћ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порочност-забрана сексуалних контаката са пацијентима, члановима њихове породице или њиховим робови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јност података, без ширења информација о томе шта је видео или чуо приликом нечијег лечењ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ивање на одговорност пред боговима за добро обављен посао или супротно томе, призивање зла ако не поступа у складу са раније изнетим правил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755640" y="1268280"/>
            <a:ext cx="7704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коме нећу, чак и ако ме замоли, преписати смртоносан отров нити ћу му дати савет који може проузроковати његову смрт. Нити ћу дати жени средство за побачај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ипократова заклетва, оригинални тек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псолутно ћу поштовати људски живот од самог почетка. И под претњом нећу попустити да се искористе моја медицинска знања, супротна законима хума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еневска конвенција, 1946.г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116000" y="1197000"/>
            <a:ext cx="6840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колико се верно држим ове заклетве, нека уживам у мом животу и пракси моје уметности, поштован од стране свих људи за сва времена; али уколико застраним са ње или је прекршим, нека ме све супротно задес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Хипократова заклетва, оригинални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swear to fulfill, to the best of my ability and judgment, this coven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ppocratic Oath – Modern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85640"/>
            <a:ext cx="4043520" cy="20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3 предлога др Е. Пелегрина за допун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ипократове заклетве </a:t>
            </a:r>
            <a:br>
              <a:rPr sz="2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dmund E. Pellegr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221616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ављам добро пацијента у центар свог бављења овом професијом, а када то ситуација захтева, и изнад свог сопственог добра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рам поседовати и одржавати ниво знања потребан за обављање ове професиј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препознајем границе своје стручности и не устручавам се да зовем колеге које се баве другим областимакоји поседују знања, а да је то потребно мом пацијенту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поштујем вредности и уверења својих колега, а да их при том посматрам као респектабилне индивидуе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бринем о сваком на исти начин, без обзира на њихове финансијске могућности да плати поступке и захвате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радим првенствено у интересу својих пацијената а не примарно у корист друштвеног, политичког или економског система, нити у моје интересе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поштујем пацијентово морално право да учествује у доношењу одлука које утичу на њега, тако што ћу јасним и њему разумљивим језиком објаснити природу болести пацијенту, као и добробит и опасности од начина лечења који се препоручуј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помажем пацијентима да доносе праве одлуке, без присиле или дволично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држим у тајности шта сам чуо, видео или научио као део моје основне бриге за пацијента, сем када би то задржавањеинформација било опасније по њега или његову околин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увек помажем свом пацијенту посебно када је смрт неминовна, да умре у складу са својом жељ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икад не учествовати у директном, активном и свесном убијању пацијената, чак ни из самилости, на њихов или захтев њихове породиц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испуним своју обавезу према друштву тако што ћу учествовати у јавним дебатама које се односе на јавно здравље као експерт и објективан посматра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примењујем оно што говорим, оно што сам учио и у шта верујемм и да то учиним принципима свог живота. „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21-02-07T13:43:37Z</dcterms:modified>
  <cp:revision>8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